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623-E882-401B-A324-89CD47A3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783-4DAD-431D-8052-BF82E55A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D07-AF3A-457C-AF11-D13762B6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2C0-4578-4BCF-9A80-D630549F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00D8-7781-4CEC-BC92-740D0CAD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261-4715-4FB7-A985-1DE848EC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69D5-80C3-4EBD-BFC9-F5B150D1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5235-0466-47F4-BF01-3E799D57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398B-995B-42AD-9E81-3ABB971F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7E68-E6FD-4A32-9B2F-61F69342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58E0-6F15-46F0-912B-DD06508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4D8-248F-4719-85BB-5921A596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4D09-07EA-40D3-8DE7-D1BFE76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60C0-0755-4075-8249-9DBF4A6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3D56-06E4-437F-BB58-A827D0AB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AC19-7AF5-45F1-89AC-68A5F703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BFD8-7B1A-45E8-A442-0E5D7B0C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9E3-29EF-4AFD-896B-0C5DA5C5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05B-15E5-489F-8F04-48416A7D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6A2-95D1-44CF-9D55-3316E395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1DE-324D-4767-97E6-A6E55A25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1B7-4DB9-4F64-89BF-1CAF50F5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05C-F9F0-4670-958C-4A220FD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F09-EB7C-4DE7-BF67-8BF113FC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0B32-45B8-4C02-9F1D-D69FB4E8A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B14-1B70-4C3C-9EFB-1FFE59BC8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onerightcontracting.com/images/TermiteDamageBeforeLG.jpg&amp;imgrefurl=http://www.donerightcontracting.com/Photos2.html&amp;usg=__yAKl9YjdzT3Y8eJqkaBfs3haUgM=&amp;h=1200&amp;w=1600&amp;sz=107&amp;hl=en&amp;start=7&amp;um=1&amp;tbnid=3jjv2QRy2jzurM:&amp;tbnh=113&amp;tbnw=150&amp;prev=/images%3Fq%3Dtermite%2Bdamage%26hl%3Den%26safe%3Dactive%26um%3D1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.timeinc.net/toh/i/a/solutions/caulk-trick-01.jpg&amp;imgrefurl=http://www.thisoldhouse.com/toh/skill-builder/0,,203700,00.html&amp;usg=__KWsjYwJRAqD0KZWwp9zY60jf_FM=&amp;h=300&amp;w=300&amp;sz=11&amp;hl=en&amp;start=9&amp;um=1&amp;tbnid=36cVyI7gSoIPDM:&amp;tbnh=116&amp;tbnw=116&amp;prev=/images%3Fq%3Dcaulk%26hl%3Den%26safe%3Dactive%26um%3D1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integritywoodwindowrepair.com/yahoo_site_admin/assets/images/scan0002.67100725_std.jpg&amp;imgrefurl=http://integritywoodwindowrepair.com/importance_of_caulk&amp;usg=__wFvjjQ8WwQqwn_M7KzZ6ZNpuMkQ=&amp;h=538&amp;w=800&amp;sz=81&amp;hl=en&amp;start=37&amp;um=1&amp;tbnid=f44taCa47fmYpM:&amp;tbnh=96&amp;tbnw=143&amp;prev=/images%3Fq%3Dcaulk%26ndsp%3D20%26hl%3Den%26safe%3Dactive%26sa%3DN%26start%3D20%26um%3D1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laredev.com/projects/silence/images/server13.jpg&amp;imgrefurl=http://www.flaredev.com/projects/silence/&amp;usg=__T1KPXcrmgGlYmpL11sKGRw_GpZw=&amp;h=379&amp;w=272&amp;sz=20&amp;hl=en&amp;start=3&amp;um=1&amp;tbnid=qZrP0GXMUlpQ3M:&amp;tbnh=123&amp;tbnw=88&amp;prev=/images%3Fq%3Dweather%2Bstripping%26hl%3Den%26safe%3Dactive%26um%3D1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econewmexico.com/system/files/images/blue-door-weatherstripping.jpg&amp;imgrefurl=http://econewmexico.com/weather-stripping&amp;usg=__E2nqn1HTyfElp_i87MniutrgAUo=&amp;h=400&amp;w=300&amp;sz=35&amp;hl=en&amp;start=14&amp;um=1&amp;tbnid=cMjwAbxDGs8nRM:&amp;tbnh=124&amp;tbnw=93&amp;prev=/images%3Fq%3Dweather%2Bstripping%26hl%3Den%26safe%3Dactive%26um%3D1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pplmotorhomes.com/parts/caulks-sealants/388608.jpg&amp;imgrefurl=http://www.pplmotorhomes.com/parts/caulks-sealants/42200.htm&amp;usg=__XQEEEiQ_PfLisLZKpFkMFj2juVw=&amp;h=237&amp;w=250&amp;sz=10&amp;hl=en&amp;start=1&amp;um=1&amp;tbnid=IuaDwEES49gC7M:&amp;tbnh=105&amp;tbnw=111&amp;prev=/images%3Fq%3Dweather%2Bstripping%26hl%3Den%26safe%3Dactive%26um%3D1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uchlocal.com/media/business/3482305/DSCF0349.JPG%3F1229359210&amp;imgrefurl=http://www.touchlocal.com/nat/c-1430-t-2460-Paving%2BDriveway%2BContractors-Birmingham&amp;usg=__qDY0XCdQuXkaTHJMyKHMZXOTIR8=&amp;h=960&amp;w=1280&amp;sz=465&amp;hl=en&amp;start=1&amp;um=1&amp;tbnid=jaG-iptIH0S2JM:&amp;tbnh=113&amp;tbnw=150&amp;prev=/images%3Fq%3Ddriveways%26hl%3Den%26safe%3Dactive%26um%3D1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www.landscaping4u.co.uk/index.php%3Ffuseaction%3Dfile.home%26content_id%3D148&amp;imgrefurl=http://www.landscaping4u.co.uk/drives-and-driveways&amp;usg=__t9WbEvbcC2SpkrN0Vf5xiiPeZ1I=&amp;h=300&amp;w=400&amp;sz=20&amp;hl=en&amp;start=26&amp;um=1&amp;tbnid=nIE4P_fLOzVpQM:&amp;tbnh=93&amp;tbnw=124&amp;prev=/images%3Fq%3Ddriveways%26ndsp%3D20%26hl%3Den%26safe%3Dactive%26sa%3DN%26start%3D20%26um%3D1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srconstructionca.com/Graphics/driveways.jpg&amp;imgrefurl=http://www.srconstructionca.com/cementdriveways.html&amp;usg=__S_nycjGCHcfcBZcV2YqPsNdWEtQ=&amp;h=267&amp;w=350&amp;sz=33&amp;hl=en&amp;start=33&amp;um=1&amp;tbnid=tY4LNeN4eW8lrM:&amp;tbnh=92&amp;tbnw=120&amp;prev=/images%3Fq%3Ddriveways%26ndsp%3D20%26hl%3Den%26safe%3Dactive%26sa%3DN%26start%3D20%26um%3D1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ayview-house.com/images/site/gallery/sun_porches_and_decks/terrace_overhead.jpg&amp;imgrefurl=http://www.bayview-house.com/sun_porches_and_decks.html&amp;usg=__2xhWDXYYvczp4UsA3YXDHTTMBfs=&amp;h=502&amp;w=750&amp;sz=231&amp;hl=en&amp;start=30&amp;um=1&amp;tbnid=3xE8QlPN3s9vUM:&amp;tbnh=94&amp;tbnw=141&amp;prev=/images%3Fq%3Ddecks,%2Bporches,%2Bterraces%26ndsp%3D20%26hl%3Den%26safe%3Dactive%26sa%3DN%26start%3D20%26um%3D1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www.leishmanlandscaping.com/about-us/images/decksAndPatios/005_Custom%2520wood%2520deck.jpg&amp;imgrefurl=http://www.leishmanlandscaping.com/about-us/portfolio.php&amp;usg=__g7rBcJXnsUyazGT7ZFKGikvk6ak=&amp;h=450&amp;w=606&amp;sz=122&amp;hl=en&amp;start=3&amp;um=1&amp;tbnid=PFAIKba2lZQWWM:&amp;tbnh=101&amp;tbnw=136&amp;prev=/images%3Fq%3Ddecks%2Band%2Bpatios%26hl%3Den%26safe%3Dactive%26um%3D1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mages.google.com/imgres?imgurl=http://www.wayneshomeimprovements.com/decks.jpg&amp;imgrefurl=http://www.wayneshomeimprovements.com/services.htm&amp;usg=__ZJdeVV7Q8FP7D5alNE8t1buXE5A=&amp;h=1393&amp;w=2168&amp;sz=579&amp;hl=en&amp;start=6&amp;um=1&amp;tbnid=P_nAtVP-FVa45M:&amp;tbnh=96&amp;tbnw=150&amp;prev=/images%3Fq%3Ddecks%2Band%2Bpatios%26hl%3Den%26safe%3Dactive%26um%3D1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oheganiron.com/images/mohegan%2520watermarks/Exterior%2520Railings/Deck_Railing_R01.jpg&amp;imgrefurl=http://www.moheganiron.com/exterior_railings.html&amp;usg=__HjqaobuiivL1h_D5IbF0YJoIVJE=&amp;h=480&amp;w=637&amp;sz=310&amp;hl=en&amp;start=8&amp;um=1&amp;tbnid=XI77i8oc1k26VM:&amp;tbnh=103&amp;tbnw=137&amp;prev=/images%3Fq%3Ddeck%2Brailing%26hl%3Den%26safe%3Dactive%26um%3D1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nyltechinc.com/images/img_0468.jpg&amp;imgrefurl=http://www.vinyltechinc.com/Gutters___Downspouts.html&amp;usg=___iSMVJ1j1mc0Ml31Km4PcgW6yec=&amp;h=3264&amp;w=2448&amp;sz=4004&amp;hl=en&amp;start=8&amp;um=1&amp;tbnid=3GN5KWhIdB-4HM:&amp;tbnh=150&amp;tbnw=113&amp;prev=/images%3Fq%3Dgutters%2Band%2Bdownspouts%26hl%3Den%26safe%3Dactive%26sa%3DN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guttersupply.com/file_area/public/image/gutter%2520and%2520downspout.png&amp;imgrefurl=http://www.guttersupply.com/m-copper.gstml&amp;usg=__HrlU2V1Yp8Ra85sz183Va0yB4os=&amp;h=634&amp;w=896&amp;sz=646&amp;hl=en&amp;start=2&amp;um=1&amp;tbnid=-JBRkQxvuEocJM:&amp;tbnh=103&amp;tbnw=146&amp;prev=/images%3Fq%3Dgutters%2Band%2Bdownspouts%26hl%3Den%26safe%3Dactive%26sa%3DN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endlesssummerlawncare.net/content/gutter_full_4.jpg&amp;imgrefurl=http://www.endlesssummerlawncare.net/cleanupsfallspring.php&amp;usg=__hbUpUlkIn7914_2mOD8tl-HjiKk=&amp;h=477&amp;w=640&amp;sz=41&amp;hl=en&amp;start=21&amp;um=1&amp;tbnid=5q3HAKWPThvLOM:&amp;tbnh=102&amp;tbnw=137&amp;prev=/images%3Fq%3Dgutters%2Band%2Bdownspouts%26ndsp%3D20%26hl%3Den%26safe%3Dactive%26sa%3DN%26start%3D20%26um%3D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coloradoguttertopper.com/img/corporate/beautyshot.jpg&amp;imgrefurl=http://coloradoguttertopper.com/dealers/Product.aspx&amp;usg=__Wj2mWARFARdtcFuLW2sWpfpuEKo=&amp;h=322&amp;w=391&amp;sz=60&amp;hl=en&amp;start=27&amp;um=1&amp;tbnid=4wRXB9TyuzHawM:&amp;tbnh=101&amp;tbnw=123&amp;prev=/images%3Fq%3Dgutters%2Band%2Bdownspouts%26ndsp%3D20%26hl%3Den%26safe%3Dactive%26sa%3DN%26start%3D20%26um%3D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me-improvement-time.com/images/cedar-wood-siding-image.jpg&amp;imgrefurl=http://www.home-improvement-time.com/2008/05/23/free-cedar-wood-exterior-house-siding-samples/&amp;usg=__Mueb7O13_ZIOl37Bwd0LuhIcHk0=&amp;h=476&amp;w=452&amp;sz=60&amp;hl=en&amp;start=2&amp;um=1&amp;tbnid=KReM3uZEEzpRtM:&amp;tbnh=129&amp;tbnw=122&amp;prev=/images%3Fq%3Dwood%2Bsiding%2Bon%2Ba%2Bhouse%26hl%3Den%26safe%3Dactive%26um%3D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mg2.timeinc.net/toh/i/a/repair/wood-siding-2-00.jpg&amp;imgrefurl=http://www.thisoldhouse.com/toh/article/0,,1208709-3,00.html&amp;usg=__GHk1P73KibOr3iRx80nvVWDICKs=&amp;h=300&amp;w=300&amp;sz=12&amp;hl=en&amp;start=19&amp;um=1&amp;tbnid=6c4dwQPBGhLs3M:&amp;tbnh=116&amp;tbnw=116&amp;prev=/images%3Fq%3Dwood%2Bsiding%2Bon%2Ba%2Bhouse%26hl%3Den%26safe%3Dactive%26um%3D1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i.ehow.com/images/GlobalPhoto/Articles/4895037/157196-main_Full.jpg&amp;imgrefurl=http://www.ehow.com/video_4756247_power-washing-vinyl-siding.html&amp;usg=__FazNBKH47S02gB34vV88lvfxs7Q=&amp;h=224&amp;w=300&amp;sz=12&amp;hl=en&amp;start=29&amp;um=1&amp;tbnid=UGokti6ft3PsMM:&amp;tbnh=87&amp;tbnw=116&amp;prev=/images%3Fq%3Dwood%2Bsiding%2Bon%2Ba%2Bhouse%26ndsp%3D20%26hl%3Den%26safe%3Dactive%26sa%3DN%26start%3D20%26um%3D1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4066009.u40.websitesource.net/images/Superbowl%2520Bash%2520%2708%2520144.JPG&amp;imgrefurl=http://www.arcoremodeling.com/gpage1.html&amp;usg=__JHK5eUS3hpWfMXJJpT7LpRztHys=&amp;h=979&amp;w=806&amp;sz=191&amp;hl=en&amp;start=11&amp;um=1&amp;tbnid=TsCrMhu0Cb72-M:&amp;tbnh=149&amp;tbnw=123&amp;prev=/images%3Fq%3Dfiber%2Bboard%2Bsiding%2Bon%2Ba%2Bhouse%26hl%3Den%26safe%3Dactive%26sa%3DG%26um%3D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home-improvement-time.com/images/cerber-fiber-cement-siding-mahogany-profile.jpg&amp;imgrefurl=http://www.home-improvement-time.com/2008/05/06/cerber-fiber-cement-siding-sample-boards/&amp;usg=__zENj0KdfjuN-14FaudhYdLb76qI=&amp;h=317&amp;w=452&amp;sz=32&amp;hl=en&amp;start=12&amp;um=1&amp;tbnid=E-9pEmOHEp0K5M:&amp;tbnh=89&amp;tbnw=127&amp;prev=/images%3Fq%3Dfiber%2Bboard%2Bsiding%2Bon%2Ba%2Bhouse%26hl%3Den%26safe%3Dactive%26sa%3DG%26um%3D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svinylsiding.com/images/house-vinyl-siding.jpg&amp;imgrefurl=http://www.tsvinylsiding.com/&amp;usg=__wQdlENVSVWSjGJ8E9VXeEfbidow=&amp;h=336&amp;w=290&amp;sz=60&amp;hl=en&amp;start=14&amp;um=1&amp;tbnid=bB1Y0cTT7psfhM:&amp;tbnh=119&amp;tbnw=103&amp;prev=/images%3Fq%3Dvinylsiding%2Bon%2Ba%2Bhouse%26hl%3Den%26safe%3Dactive%26um%3D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.timeinc.net/toh/i/a/exteriors/mortar-10.jpg&amp;imgrefurl=http://www.thisoldhouse.com/toh/article/0,,232787,00.html&amp;usg=__R4dh0Kj0wN2LtlC9cV_lKj7RKM4=&amp;h=300&amp;w=300&amp;sz=26&amp;hl=en&amp;start=31&amp;um=1&amp;tbnid=XzkoFZAhJobAiM:&amp;tbnh=116&amp;tbnw=116&amp;prev=/images%3Fq%3Dbrick%2Bon%2Ba%2Bhouse%26ndsp%3D20%26hl%3Den%26safe%3Dactive%26sa%3DN%26start%3D20%26um%3D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ior Maintenance and Cl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Stucco walls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require washing to eliminate mold and mild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http://www.worldgateplasterandstucco.com/sites/1838/how-to-build-a-stucco-house.png"/>
          <p:cNvPicPr/>
          <p:nvPr/>
        </p:nvPicPr>
        <p:blipFill>
          <a:blip r:embed="rId1"/>
          <a:stretch/>
        </p:blipFill>
        <p:spPr>
          <a:xfrm>
            <a:off x="1371600" y="3429000"/>
            <a:ext cx="3495600" cy="310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http://www.sciway.net/sc-photos/albums/coast-sc/thigh-tile-house.jpg"/>
          <p:cNvPicPr/>
          <p:nvPr/>
        </p:nvPicPr>
        <p:blipFill>
          <a:blip r:embed="rId2"/>
          <a:stretch/>
        </p:blipFill>
        <p:spPr>
          <a:xfrm>
            <a:off x="5715000" y="2666880"/>
            <a:ext cx="299088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homes need to be checked for termites annually. Termites feed on wood especially wood that is holding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TermiteDamageBefore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343400"/>
            <a:ext cx="1962360" cy="168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Termite Damage "/>
          <p:cNvPicPr/>
          <p:nvPr/>
        </p:nvPicPr>
        <p:blipFill>
          <a:blip r:embed="rId3"/>
          <a:stretch/>
        </p:blipFill>
        <p:spPr>
          <a:xfrm>
            <a:off x="3276720" y="5181480"/>
            <a:ext cx="3076560" cy="152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http://frontlinepestmanagement.com/web_images/termites_1.jpg"/>
          <p:cNvPicPr/>
          <p:nvPr/>
        </p:nvPicPr>
        <p:blipFill>
          <a:blip r:embed="rId4"/>
          <a:stretch/>
        </p:blipFill>
        <p:spPr>
          <a:xfrm>
            <a:off x="1295280" y="3581280"/>
            <a:ext cx="272412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ndow and Do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Need regular cleaning and check for 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Need to be inspected to make sure they are properly caulked and sealed. </a:t>
            </a: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Caulk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prevents air leakage, which is a major cause of higher heating and cool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aulk-trick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8380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can00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5257800"/>
            <a:ext cx="13622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Weather stripping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should also be replaced as it wears out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server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4038480"/>
            <a:ext cx="1676520" cy="1171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blue-door-weatherstrippi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4267080"/>
            <a:ext cx="1571400" cy="1752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3886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4114800"/>
            <a:ext cx="18288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iveways, Patios, Porches, De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Driveways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may be constructed of concrete, asphalt, brick, or many other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Check for cracks and deteri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Pressure washing keeps away the excess dirt and alga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Apply water sealants to repel mois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iveway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DSCF0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590920"/>
            <a:ext cx="3047760" cy="1676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231444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driveway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4495680"/>
            <a:ext cx="243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Decks, porches, terraces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should be checked for rot and damag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terrace_overhe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505320"/>
            <a:ext cx="2362320" cy="1581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005_Custom%2520wood%2520de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3089160"/>
            <a:ext cx="1752840" cy="1301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deck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4800600"/>
            <a:ext cx="24386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skyebuilders.com/wp-content/gallery/decks-patios-fences/deck3.JPG"/>
          <p:cNvPicPr/>
          <p:nvPr/>
        </p:nvPicPr>
        <p:blipFill>
          <a:blip r:embed="rId1"/>
          <a:stretch/>
        </p:blipFill>
        <p:spPr>
          <a:xfrm>
            <a:off x="1295280" y="914400"/>
            <a:ext cx="734400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Pressure wash, paint and stain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Also check railings and stairs to make sure they are safe, secure, and not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Deck_Railing_R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114800"/>
            <a:ext cx="1990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reedlove-Ipe-Deck-Rail3"/>
          <p:cNvPicPr/>
          <p:nvPr/>
        </p:nvPicPr>
        <p:blipFill>
          <a:blip r:embed="rId3"/>
          <a:stretch/>
        </p:blipFill>
        <p:spPr>
          <a:xfrm>
            <a:off x="4267080" y="4343400"/>
            <a:ext cx="1381320" cy="1447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railing_spindle2"/>
          <p:cNvPicPr/>
          <p:nvPr/>
        </p:nvPicPr>
        <p:blipFill>
          <a:blip r:embed="rId4"/>
          <a:stretch/>
        </p:blipFill>
        <p:spPr>
          <a:xfrm>
            <a:off x="6477120" y="47242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Modern No. 20"/>
              </a:rPr>
              <a:t>Roof, Gutters, Downspou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Check roof for leaves and twigs as they contribute excess moisture that can cause r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Check metal and shingles roofs for scrapes by limbs that can damage during heavy winds and st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Check roofs every 6 months for loose shingl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Modern No. 2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dern No. 20"/>
              </a:rPr>
              <a:t>Keep gutters and downspouts clear of anything that may block the proper flow of water off the 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dern No. 20"/>
              </a:rPr>
              <a:t>Check gutters after a heavy storm or heavy leaf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dern No. 20"/>
              </a:rPr>
              <a:t>If water cannot properly flow off the roof, it will backup into attic spaces and wall cavities, causing rot, mold, and term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tters and downspou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Picture 6" descr="img_04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523880"/>
            <a:ext cx="1879560" cy="249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gutter%2520and%2520downspou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2286000"/>
            <a:ext cx="2076480" cy="1465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gutter_full_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4430880"/>
            <a:ext cx="2819520" cy="2098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beautysho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5105520"/>
            <a:ext cx="20098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terior Wa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Exterior walls can be wood, manufactured siding (fiberboard, or fiber cement siding), brick, vinyl siding, or stu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Wood siding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must be monitored for rot and replaced as needed, must be painted or stained on regular basis to protect the house from sun, wind,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od Si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edar-wood-siding-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743200"/>
            <a:ext cx="1981440" cy="1762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wood-siding-2-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2438280"/>
            <a:ext cx="217152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57196-main_Fu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4648320"/>
            <a:ext cx="198108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Manufactured siding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needs to be washed and painted on a regular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Superbowl%2520Bash%2520%2708%25201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038480"/>
            <a:ext cx="2052360" cy="2486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erber-fiber-cement-siding-mahogany-profi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4175280"/>
            <a:ext cx="242892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Vinyl siding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needs to be washed and checked for loose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house-vinyl-si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886200"/>
            <a:ext cx="166716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http://www.vinyl-siding-info.com/images/TYVEK-VINYL-SIDING_11.jpg"/>
          <p:cNvPicPr/>
          <p:nvPr/>
        </p:nvPicPr>
        <p:blipFill>
          <a:blip r:embed="rId3"/>
          <a:stretch/>
        </p:blipFill>
        <p:spPr>
          <a:xfrm>
            <a:off x="6553080" y="3200400"/>
            <a:ext cx="2000520" cy="267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http://www.discount-structures.com/ds_files/stainColors540px.jpg"/>
          <p:cNvPicPr/>
          <p:nvPr/>
        </p:nvPicPr>
        <p:blipFill>
          <a:blip r:embed="rId4"/>
          <a:stretch/>
        </p:blipFill>
        <p:spPr>
          <a:xfrm>
            <a:off x="1295280" y="3352680"/>
            <a:ext cx="240048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If constructed of </a:t>
            </a: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brick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, check the mortar btw the bricks on a regular basis. </a:t>
            </a:r>
            <a:r>
              <a:rPr b="1" lang="en-US" sz="3200" spc="-1" strike="noStrike">
                <a:solidFill>
                  <a:srgbClr val="3366cc"/>
                </a:solidFill>
                <a:latin typeface="Modern No. 20"/>
              </a:rPr>
              <a:t>“Pointing up”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is the term for replacing the mor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mortar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3505320"/>
            <a:ext cx="171432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http://housedesigngallery.com/wp-content/uploads/2009/12/red-brick-house-2.jpg"/>
          <p:cNvPicPr/>
          <p:nvPr/>
        </p:nvPicPr>
        <p:blipFill>
          <a:blip r:embed="rId3"/>
          <a:stretch/>
        </p:blipFill>
        <p:spPr>
          <a:xfrm>
            <a:off x="1295280" y="3809880"/>
            <a:ext cx="2590920" cy="151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http://archinspire.com/wp-content/uploads/2009/05/eco-green-brick-house-modern2.jpg"/>
          <p:cNvPicPr/>
          <p:nvPr/>
        </p:nvPicPr>
        <p:blipFill>
          <a:blip r:embed="rId4"/>
          <a:stretch/>
        </p:blipFill>
        <p:spPr>
          <a:xfrm>
            <a:off x="4267080" y="4419720"/>
            <a:ext cx="2476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0:14:20Z</dcterms:created>
  <dc:creator> sherry brooks</dc:creator>
  <dc:description/>
  <dc:language>en-US</dc:language>
  <cp:lastModifiedBy>s.brooks</cp:lastModifiedBy>
  <dcterms:modified xsi:type="dcterms:W3CDTF">2011-05-19T14:15:32Z</dcterms:modified>
  <cp:revision>9</cp:revision>
  <dc:subject/>
  <dc:title>PowerPoint Presentation</dc:title>
</cp:coreProperties>
</file>